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D6B-5A32-4DFA-8967-5A7B0453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CD7-40FC-46C4-B249-F8A04448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C30-66E2-418B-897D-26A11CB1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4B4-760C-4DFE-BF10-6BCF7B24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77BC-9998-42E6-9C01-E3689520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CFC1-D194-407E-BE30-B6975AB3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721-D354-4E2A-9932-2B02EE76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A16-7103-4083-9136-B3C92BA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1E47-08B6-4244-A174-C3F8719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48A-B730-422A-8E5E-CEE0F2D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A02D-9BB7-4120-8835-4C6F827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F00-1822-4B92-93EA-713DC190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E95C-F246-4329-875F-344A1AD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7FA-9AEB-4320-B2F6-56D7A43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38F3-3417-4693-AD4C-8D4A31E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EB32-74F4-452E-AA83-894FC229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75C-17F8-4112-8EB5-38E0F6D1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977-35DE-42EB-B6C8-2AE377A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63D-F640-405D-8CA9-377BF52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02B-C758-4F67-892F-3780E63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F1C-226A-4C4D-BD7B-B6BBCAF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E40-0FEF-4FA5-8953-D77A324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AC4-2E00-4F16-8D12-F7EB13C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D73-8456-48CF-96C0-421417B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55E-11BA-4C42-9159-33491BEC3A3E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536-7B47-48C8-8029-69D46F122D1E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hina Re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did Buddha say one had to give up so they could end their suffering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 said that the only way to not suffer was to give up desire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the goal of Buddhism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goal of Buddhism is nirva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“the Buddha” mea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” means the “Enlightened One.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 Buddhists practice to achieve nirvan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ts practice meditation to achieve nirva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reincarnatio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eincarnation is the belief that when the body dies the soul enters a new bod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karm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Karma is the good and bad actions that will have a consequences, which leads to rebirth after rebirth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Buddhism get to Chin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got to China by monks and traders traveling along the Silk Roa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Who did Confucius say should have absolute respect for authority?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e children should have absolute respect for authori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What is one reason why Buddhism spread in Tang China?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spread in Tang China because it promised a better lif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Daoism call the opposite forces of natur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aoism calls the opposite forces of nature yin and yang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Confucius say people should treat each other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people should treat each other with respec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Daoism say people should live in harmony with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aoism says people should live in harmony with natur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o did Confucius say should set a good example and society would be healthy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at the ruler should set a good example and society would be health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y did Buddhism spread after the collapse of the Han Dynasty in the 200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spread after the collapse of the Han Dynasty because it offered comfort in a time of uncertainty and disorder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w might a scholar-official in the Tang Dynasty have obtained a position in the government?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scholar-official in the Tang Dynasty would have obtained a position in the government by doing well on a state examination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20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would be a good title for the map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472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e Chinese were the first to turn paper into this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were the first to turn paper into money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y was the Great Wall built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Great Wall was built to keep invaders out of Chi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mountain range is between China and Indi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Himalayas are the mountains between China and Indi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allowed China to be unified after the breakup of the Han Dynasty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establishment of a central government allowed China to be unified after the breakup of the Han Dynas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cultural diffusio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ultural diffusion is the spread of ideas from one culture to another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use tea for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t first the Chinese used tea as a medicine, but eventually it became a very popular beverag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ccording to the map, where did the ideas of Buddhism begin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1373040"/>
            <a:ext cx="7391520" cy="5275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porcelai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rcelain is a hard white ceramic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is invention allowed the Chinese to  print books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invention that allowed the Chinese to print books was movable typ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wood-blocked printing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od block printing is carved wooden blocks with enough characters to make an entire pag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imperial mea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mperial means related to an empir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a bureaucracy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bureaucracy is a government divided into department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Chinese invention helped spread knowledge throughout the world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ion of printing spread knowledge throughout the worl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invent to make firework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ed gunpowder to make firework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ventually, the gunpowder was used for weapon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invent that helped sailor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ed the compass which helped sailor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ith the compass, sailors could tell what direction they were heading in even at night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ccording to Confucius, how will a society be healthy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at a society would be healthy if everyone treated each other with respec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ere was the Buddha bor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 was born in Indi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Buddha teach that life wa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a taught that all life was suffering and pain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4:49:13Z</dcterms:created>
  <dc:creator>Jeff Kash</dc:creator>
  <dc:description/>
  <dc:language>en-US</dc:language>
  <cp:lastModifiedBy>Jeff Kash</cp:lastModifiedBy>
  <dcterms:modified xsi:type="dcterms:W3CDTF">2010-02-13T21:57:55Z</dcterms:modified>
  <cp:revision>23</cp:revision>
  <dc:subject/>
  <dc:title>China Review</dc:title>
</cp:coreProperties>
</file>